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5A1-8B8F-4F96-9D08-4C6DD4A4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208-5701-4C9E-87C6-1D486E0F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72A-83D3-48B1-8B89-41AB2F1D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F0D-B103-4AE7-8AC9-3C084D75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E77-5223-4941-B4D2-9A7F830B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307-E5E0-4A7E-B7FE-83138EC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1DF-80AB-46DC-B4C8-6775A45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07E-0A8C-41F7-8401-248A0BC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DD7-E323-4ABF-B9D4-6C68939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770-CC3E-460A-87C5-A691116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E18-09B7-4369-93BF-50FF1967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E6D-3067-43CA-90A7-A09116A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44A-55F5-4604-B457-372E1BF6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6 Otče náš na neb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če náš na neb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 ťa veleb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tí t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y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nám v šted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š vždy v hoj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ený 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Kráľ,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teľ hriechu,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by čuj hla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vodom márn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iešnych žiad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ojej múd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chraňuj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iteľ sľúb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ás buď sláv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tvoj z výs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sa rozh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naš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staneš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ojici presvät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dnote odvek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a od ve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láske a svät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ojej ver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ým bd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7:27Z</dcterms:modified>
  <cp:revision>29</cp:revision>
  <dc:subject/>
  <dc:title>Je veľký náš Pán, on slávy je Kráľ Nech do všetkých strán  spev vrúcnych znie chvál.</dc:title>
</cp:coreProperties>
</file>